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0E00-632B-459D-9C1C-89F826DFB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33FC-E195-4418-AD1B-A4147B04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E346-A675-4439-B857-AD28AF1B6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5BE2-B3FD-4C44-8582-E8462D209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67E1-B84A-4024-A256-DC348AD67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15FB-D6BA-47B5-8C4C-983B100E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A9DB-6318-4956-8700-E568060A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9C84-D361-4A37-A118-B04BC17B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7818-7EB2-4641-9E01-23DC188C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0D9D-36E4-45B1-9F72-C2D01C4A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BE99-3F62-46C1-97CE-F515F57C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AAD1-33A4-438F-A5B7-D2E07151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BFEE-1712-490E-80AA-F8CA5218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69F4-1274-4591-82CD-AAA4BE48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B438-40BE-49F4-B50F-8DAF8096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D90F-8864-425C-A829-BAE2F71B3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4E9B-0284-4786-81BE-B5927DCE5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729D-A9AC-45B4-8484-D01A1512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C9C7-FC8F-437B-8550-1C4EFEF0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18DB-4B68-45AE-8AAF-8B9ACBF4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04E2-322E-4C4D-8F0A-4E5AEC53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0B39-3CAB-4DA8-AD55-C6E80880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7276-7403-4274-A097-773C7FCD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6B32-F2EC-40B3-BBA0-274DCB12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2D8A-F076-4212-A065-5AE09BEB1BC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81080" y="227628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FIGURY GEOMETRYCZ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C6A3-9248-417A-8FB7-1DB5334D2A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41280" y="54936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SKA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06640" y="2649960"/>
            <a:ext cx="733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KAL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liczba oznaczająca, ile razy daną rzecz pomniejszyliśmy lub powiększyliśm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SKALE LICZBOW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06640" y="1089000"/>
            <a:ext cx="274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 : 1 –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obraz rzeczywi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06640" y="1628640"/>
            <a:ext cx="7021440" cy="18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kala pomniejszają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 : 2 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kala pomniejszająca dokładnie 2 raz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 : 3 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kala pomniejszająca dokładnie 3 raz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 : 10 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kala pomniejszająca dokładnie 10 raz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 : 16 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kala pomniejszająca dokładnie 16 raz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06640" y="3608280"/>
            <a:ext cx="702144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kala powiększają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2 : 1 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kala powiększająca dokładnie 2 raz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5 : 1 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kala powiększająca dokładnie 5 raz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5 : 1 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kala powiększająca dokładnie 15 raz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7440" y="5124600"/>
            <a:ext cx="651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Ćwicze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poniższych skal wybierz skale pomniejszające i powiększają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0960" y="5858640"/>
            <a:ext cx="84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1: 7         13 : 1         1000 : 1          1 : 20         1 : 55         150 : 1         1 : 10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RZYKŁAD SKALOWAN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Obraz 172" descr=""/>
          <p:cNvPicPr/>
          <p:nvPr/>
        </p:nvPicPr>
        <p:blipFill>
          <a:blip r:embed="rId1"/>
          <a:srcRect l="3985" t="7887" r="62359" b="39974"/>
          <a:stretch/>
        </p:blipFill>
        <p:spPr>
          <a:xfrm>
            <a:off x="1376280" y="1494000"/>
            <a:ext cx="1890720" cy="2339640"/>
          </a:xfrm>
          <a:prstGeom prst="rect">
            <a:avLst/>
          </a:prstGeom>
          <a:ln w="0">
            <a:noFill/>
          </a:ln>
        </p:spPr>
      </p:pic>
      <p:pic>
        <p:nvPicPr>
          <p:cNvPr id="107" name="Obraz 172" descr=""/>
          <p:cNvPicPr/>
          <p:nvPr/>
        </p:nvPicPr>
        <p:blipFill>
          <a:blip r:embed="rId2"/>
          <a:srcRect l="3972" t="7863" r="62340" b="39958"/>
          <a:stretch/>
        </p:blipFill>
        <p:spPr>
          <a:xfrm>
            <a:off x="4572000" y="1444680"/>
            <a:ext cx="3782880" cy="4684680"/>
          </a:xfrm>
          <a:prstGeom prst="rect">
            <a:avLst/>
          </a:prstGeom>
          <a:ln w="0">
            <a:noFill/>
          </a:ln>
        </p:spPr>
      </p:pic>
      <p:pic>
        <p:nvPicPr>
          <p:cNvPr id="108" name="Obraz 172" descr=""/>
          <p:cNvPicPr/>
          <p:nvPr/>
        </p:nvPicPr>
        <p:blipFill>
          <a:blip r:embed="rId3"/>
          <a:srcRect l="3972" t="7863" r="62340" b="39958"/>
          <a:stretch/>
        </p:blipFill>
        <p:spPr>
          <a:xfrm>
            <a:off x="1892160" y="5183280"/>
            <a:ext cx="474840" cy="587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646280" y="1112760"/>
            <a:ext cx="12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kala 1 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3789360"/>
            <a:ext cx="274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zeczywiste wymiary zdję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12000" y="1066680"/>
            <a:ext cx="121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kala 2 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57360" y="4735440"/>
            <a:ext cx="12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kala 1 :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2000" y="5773680"/>
            <a:ext cx="2745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Zdjęcie zostało pomniejszone 4 raz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92720" y="6087960"/>
            <a:ext cx="274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Zdjęcie zostało powiększone 2 raz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16000" y="0"/>
            <a:ext cx="80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RZYKŁADY – SKALA POMNIEJSZAJĄ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1764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1640" y="1042920"/>
            <a:ext cx="84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1. Dany jest odcinek o długości 400 cm. Jaka będzie długość odcinka w skali 1 : 100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63440" y="1942560"/>
            <a:ext cx="54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zyli wykonaliśmy działanie: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400 cm : 100 = 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1640" y="2484360"/>
            <a:ext cx="783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2. Dany jest odcinek o długości 6 mm. Jaka będzie długość odcinka w skali 1 : 2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706400" y="2887920"/>
            <a:ext cx="5313240" cy="520200"/>
            <a:chOff x="1706400" y="2887920"/>
            <a:chExt cx="5313240" cy="520200"/>
          </a:xfrm>
        </p:grpSpPr>
        <p:sp>
          <p:nvSpPr>
            <p:cNvPr id="123" name=""/>
            <p:cNvSpPr/>
            <p:nvPr/>
          </p:nvSpPr>
          <p:spPr>
            <a:xfrm>
              <a:off x="1706400" y="2887920"/>
              <a:ext cx="5313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6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m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1 :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           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m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 rzeczywisto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ś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i                                po zastosowaniu ska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4" name="Łącznik prosty ze strzałką 177"/>
            <p:cNvCxnSpPr/>
            <p:nvPr/>
          </p:nvCxnSpPr>
          <p:spPr>
            <a:xfrm>
              <a:off x="3671640" y="3249360"/>
              <a:ext cx="962640" cy="1080"/>
            </a:xfrm>
            <a:prstGeom prst="straightConnector1">
              <a:avLst/>
            </a:prstGeom>
            <a:ln w="12600">
              <a:solidFill>
                <a:srgbClr val="70ad47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1916640" y="3421800"/>
            <a:ext cx="50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zyli wykonaliśmy działanie: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6 mm : 2 = 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57360" y="4014720"/>
            <a:ext cx="82357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3. Dany jest odcinek o długości 600 m. Jaka będzie długość odcinka w skali 1 : 100000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 pierwszej kolejności zamieniamy 600 m na centymetry. Pamiętamy, że 1 m = 100 cm. 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Zatem 600 m = 60 000 c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6040" y="4845240"/>
            <a:ext cx="531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0 000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1 :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000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 rzeczywist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i                                po zastosowaniu sk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Łącznik prosty ze strzałką 177"/>
          <p:cNvCxnSpPr/>
          <p:nvPr/>
        </p:nvCxnSpPr>
        <p:spPr>
          <a:xfrm>
            <a:off x="3941280" y="5229000"/>
            <a:ext cx="963000" cy="1080"/>
          </a:xfrm>
          <a:prstGeom prst="straightConnector1">
            <a:avLst/>
          </a:prstGeom>
          <a:ln w="12600">
            <a:solidFill>
              <a:srgbClr val="70ad47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1829520" y="5363280"/>
            <a:ext cx="60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zyli wykonaliśmy działanie: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60 000 cm : 10000 = 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616040" y="1357560"/>
            <a:ext cx="5313240" cy="520200"/>
            <a:chOff x="1616040" y="1357560"/>
            <a:chExt cx="5313240" cy="520200"/>
          </a:xfrm>
        </p:grpSpPr>
        <p:sp>
          <p:nvSpPr>
            <p:cNvPr id="131" name=""/>
            <p:cNvSpPr/>
            <p:nvPr/>
          </p:nvSpPr>
          <p:spPr>
            <a:xfrm>
              <a:off x="1616040" y="1357560"/>
              <a:ext cx="5313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400 cm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1 : 10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           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4 cm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 rzeczywisto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ś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i                                po zastosowaniu ska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2" name="Łącznik prosty ze strzałką 177"/>
            <p:cNvCxnSpPr/>
            <p:nvPr/>
          </p:nvCxnSpPr>
          <p:spPr>
            <a:xfrm>
              <a:off x="3581280" y="1717560"/>
              <a:ext cx="962640" cy="1080"/>
            </a:xfrm>
            <a:prstGeom prst="straightConnector1">
              <a:avLst/>
            </a:prstGeom>
            <a:ln w="12600">
              <a:solidFill>
                <a:srgbClr val="70ad47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16000" y="0"/>
            <a:ext cx="80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RZYKŁADY – SKALA POWIĘKSZAJĄ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1764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1640" y="1042920"/>
            <a:ext cx="84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1. Dany jest odcinek o długości 3 mm. Jaka będzie długość odcinka w skali 100 : 1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3080" y="1942560"/>
            <a:ext cx="57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zyli wykonaliśmy mnożenie: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3 mm • 100 = 3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1640" y="2484360"/>
            <a:ext cx="783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2. Dany jest odcinek o długości 8 cm. Jaka będzie długość odcinka w skali 8 : 1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706400" y="3022920"/>
            <a:ext cx="5313240" cy="520200"/>
            <a:chOff x="1706400" y="3022920"/>
            <a:chExt cx="5313240" cy="520200"/>
          </a:xfrm>
        </p:grpSpPr>
        <p:sp>
          <p:nvSpPr>
            <p:cNvPr id="141" name=""/>
            <p:cNvSpPr/>
            <p:nvPr/>
          </p:nvSpPr>
          <p:spPr>
            <a:xfrm>
              <a:off x="1706400" y="3022920"/>
              <a:ext cx="5313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8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m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 :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           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64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m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 rzeczywisto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ś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i                                po zastosowaniu ska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2" name="Łącznik prosty ze strzałką 177"/>
            <p:cNvCxnSpPr/>
            <p:nvPr/>
          </p:nvCxnSpPr>
          <p:spPr>
            <a:xfrm>
              <a:off x="3671640" y="3384360"/>
              <a:ext cx="962640" cy="1080"/>
            </a:xfrm>
            <a:prstGeom prst="straightConnector1">
              <a:avLst/>
            </a:prstGeom>
            <a:ln w="12600">
              <a:solidFill>
                <a:srgbClr val="70ad47"/>
              </a:solidFill>
              <a:miter/>
              <a:tailEnd len="med" type="triangle" w="med"/>
            </a:ln>
          </p:spPr>
        </p:cxnSp>
      </p:grpSp>
      <p:sp>
        <p:nvSpPr>
          <p:cNvPr id="143" name=""/>
          <p:cNvSpPr/>
          <p:nvPr/>
        </p:nvSpPr>
        <p:spPr>
          <a:xfrm>
            <a:off x="1916640" y="3556800"/>
            <a:ext cx="51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zyli wykonaliśmy mnożenie: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8 cm • 8 = 6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57360" y="4249800"/>
            <a:ext cx="823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Dany jest odcinek o długości 15 m. Jaka będzie długość odcinka w skali 5 : 1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86040" y="4845240"/>
            <a:ext cx="531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: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5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 rzeczywist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i                                po zastosowaniu sk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Łącznik prosty ze strzałką 177"/>
          <p:cNvCxnSpPr/>
          <p:nvPr/>
        </p:nvCxnSpPr>
        <p:spPr>
          <a:xfrm>
            <a:off x="3941280" y="5229000"/>
            <a:ext cx="963000" cy="1080"/>
          </a:xfrm>
          <a:prstGeom prst="straightConnector1">
            <a:avLst/>
          </a:prstGeom>
          <a:ln w="12600">
            <a:solidFill>
              <a:srgbClr val="70ad47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827360" y="5363280"/>
            <a:ext cx="50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zyli wykonaliśmy mnożenie: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15 m • 5 = 7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616040" y="1357560"/>
            <a:ext cx="5313240" cy="520200"/>
            <a:chOff x="1616040" y="1357560"/>
            <a:chExt cx="5313240" cy="520200"/>
          </a:xfrm>
        </p:grpSpPr>
        <p:sp>
          <p:nvSpPr>
            <p:cNvPr id="149" name=""/>
            <p:cNvSpPr/>
            <p:nvPr/>
          </p:nvSpPr>
          <p:spPr>
            <a:xfrm>
              <a:off x="1616040" y="1357560"/>
              <a:ext cx="5313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m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1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00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 : 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           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300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m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 rzeczywisto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ś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i                                po zastosowaniu ska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0" name="Łącznik prosty ze strzałką 177"/>
            <p:cNvCxnSpPr/>
            <p:nvPr/>
          </p:nvCxnSpPr>
          <p:spPr>
            <a:xfrm>
              <a:off x="3581280" y="1717560"/>
              <a:ext cx="962640" cy="1080"/>
            </a:xfrm>
            <a:prstGeom prst="straightConnector1">
              <a:avLst/>
            </a:prstGeom>
            <a:ln w="12600">
              <a:solidFill>
                <a:srgbClr val="70ad47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0:27:51Z</dcterms:modified>
  <cp:revision>31</cp:revision>
  <dc:subject/>
  <dc:title>Slajd 1</dc:title>
</cp:coreProperties>
</file>